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50C-E38C-448D-9050-6CE355F7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7AC-6CA3-4F3A-B451-AD7BE021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052-FBA4-4D5A-B849-62AC5F31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925-D0FC-4BEF-A388-59551E4B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301-4C79-4B03-A08D-38A16C8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A7C-B996-4ED6-9ED7-92C0120A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E11-7E37-4DCD-80BB-51AC4F3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68B-1F79-447E-BF96-BA28D1B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100-6303-47D0-BFE8-693176A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170-D392-4423-9B57-DAF13AAD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275-848F-45B7-B975-18C6C49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463-4AC6-4193-B8C5-B61DCF0C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B739-D463-4490-AFEF-0DD38E7A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1440" y="99072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Copperplate"/>
              </a:rPr>
              <a:t>3D Gam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80" y="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Times New Roman"/>
              </a:rPr>
              <a:t>Das View Frus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eite3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487840" cy="3868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219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View Fus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chreibt den sichtba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eich im 3D-R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3080" y="4952880"/>
            <a:ext cx="800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Sichtfeld wird eingegrenzt durch die 6 Seiten des Frustumstump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Near Plane repräsentiert den Bildsch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Far Plane grenzt gegen den Horizont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Frustumspitze repräsentiert die Kamera, bzw. das Auge des Betrach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80" y="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Times New Roman"/>
              </a:rPr>
              <a:t>Das View Frus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eite4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49680" cy="3935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8520" y="838080"/>
            <a:ext cx="81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lle sichtbaren Objekte (Polygone) liegen in Frustumstum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sichtbaren Objekte werden gegen die Near Plane projiziert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" y="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Was jetz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2480" y="1219320"/>
            <a:ext cx="60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n sich die Kamera (der Betrachter) beweg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kommen die Polygone in das Frust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2120" y="2590920"/>
            <a:ext cx="644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erkenne ich, ob ein Polygon im Frustum lieg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besser gefrag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 Polygone lieg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c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 Frust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3200" y="4267080"/>
            <a:ext cx="76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st mit Polygonen, die von andern Polygonen ganz o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ilweise verdeck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" y="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Die K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360" y="91440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iv betrachtet hat die Kamera eine Position und eine Blickricht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360" y="1600200"/>
            <a:ext cx="78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 Eigenschaften werden beschrieben durch drei Ve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040" y="2286000"/>
            <a:ext cx="605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chvektor (Einheitsvektor der Y-Ach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htsvektor (Einheitsvektor der X-Ach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svektor (Einheitsvektor  der Z-Ach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1160" y="3733920"/>
            <a:ext cx="629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Kamera wird bewegt, wenn der Betrach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n Schritt macht oder die Blickrichtung änd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8560" y="4876920"/>
            <a:ext cx="62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sch sind das lineare Transformati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nslation und Ro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Matr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400" y="838080"/>
            <a:ext cx="721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sch kann man eine lineare Transformation 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zen beschrei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5520" y="1905120"/>
            <a:ext cx="61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e und elegante Implem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hr schnell durch Vorberechnung der 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0400" y="3505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wend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962520"/>
            <a:ext cx="83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ei einer Bewegung des Betrachters werden die Ortsvek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er Kamera berech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lations- und Rotationsmatrix berech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olygone transfor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760" y="1828800"/>
            <a:ext cx="86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 das Erkennen von Polygonen, d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c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endert werden mü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92640" y="2825640"/>
            <a:ext cx="59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gibt verschiedene mathematische Ansät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Culling erfolgt in mehreren Sch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" y="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Times New Roman"/>
              </a:rPr>
              <a:t>Backface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760" y="914400"/>
            <a:ext cx="82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ückseiten-Entfern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fernen von Polygonen von denen man nur die Rückseite se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ürde, weil sie vom Betrachter weg scha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0760" y="388620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das? Ein Polygon hat eine Rückse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8720" y="4800600"/>
            <a:ext cx="39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n, aber eine Ebene (Pla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20" y="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Die Eb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1080" y="10317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schaften einer Eb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9360" y="1631880"/>
            <a:ext cx="60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Fläche einer Ebene ist unendlich gro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Ebene ist unendlich dü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Ebene hat eine Vorder- und eine Rück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eite5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305160" cy="20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9240" y="3581280"/>
            <a:ext cx="34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rmalenform der Ebe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 * N + d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2760" y="510552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- Vektor in/auf der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- Normalenvektor der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- Abstand vom Null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20" y="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Die Eb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120" y="914400"/>
            <a:ext cx="82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also ein beliebiger Vektor Vi in die Formel eingesetzt wir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ten folgende Auss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960" y="274320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* N + d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lieg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 d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ben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* N + d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lieg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inter d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ben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* N + d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 lieg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r d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ben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800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also Vi der Standort der Kamera ist, müssen nur Ebenen betrachtet werden für die gi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i * N + d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20" y="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Times New Roman"/>
              </a:rPr>
              <a:t>Backface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eite6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392720" cy="394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1760" y="762120"/>
            <a:ext cx="84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Polygone, deren Normalenvektor von der Kamera weg zei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uchen nicht gerend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Wie alles beg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doom_1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doom_2" descr=""/>
          <p:cNvPicPr/>
          <p:nvPr/>
        </p:nvPicPr>
        <p:blipFill>
          <a:blip r:embed="rId3"/>
          <a:stretch/>
        </p:blipFill>
        <p:spPr>
          <a:xfrm>
            <a:off x="4343400" y="2362320"/>
            <a:ext cx="3048120" cy="1904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360" y="4419720"/>
            <a:ext cx="836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gine-Entwickler John Carmack, Grafikdesigner Adrian Carm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anddaddy” aller Ego-Shoo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stmalige Verwendung von Binary space partitioning (BSP-Tre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ände und Böden/Decken waren noch senkrecht, bzw. waagerecht an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320" y="914400"/>
            <a:ext cx="77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 DOOM, entwickelt von der Softwareschmiede “ID Software” in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360" y="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Frustum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1600" y="1143000"/>
            <a:ext cx="68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Polygone, die ganz oder teilweise in das Frus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ein ragen, müssen gerendert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3760" y="2438280"/>
            <a:ext cx="73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stens ein Polygonpunkt liegt im Frus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stens eine Polygonkante schneidet das Frus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Richtungsvektor des Frustums schneidet das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3240" y="5105520"/>
            <a:ext cx="37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 greift der gleiche Tri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beim Backface Cu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360" y="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Frustum Cu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000" y="762120"/>
            <a:ext cx="56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Seiten des Frustums sind Ebenen, 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envektoren nach innen ze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eite8" descr=""/>
          <p:cNvPicPr/>
          <p:nvPr/>
        </p:nvPicPr>
        <p:blipFill>
          <a:blip r:embed="rId2"/>
          <a:stretch/>
        </p:blipFill>
        <p:spPr>
          <a:xfrm>
            <a:off x="6553080" y="914400"/>
            <a:ext cx="2278080" cy="26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9320" y="1828800"/>
            <a:ext cx="603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ür mind. einen Punk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le Ebenen des Frustum zeigen in Richtung des Punk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" y="2743200"/>
            <a:ext cx="623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nn eine Polygonkante eine Frustumebene scheid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üssen die Normalenvektoren der übrigen Frustumebe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ichtung des Schnittpunktes zei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2600" y="4191120"/>
            <a:ext cx="80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z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Backface Culling und Frustum Culling wird die Zahl der z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chnenden Polygone schon recht gut eingeschrän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5600" y="57150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reicht aber nich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" y="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r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762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hr mächtiges System um schnell große Bereiche von Polygonen zu elimin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teilung der Welt in disjunkte Zonen, die über Portale verbunden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 Portal ist ein konvexes Polygon, durch das man von einer Zone in eine andere Zone blick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eite9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191040" cy="349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" y="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r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83808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e Zone, die der Betrach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c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ein Portal sehen kan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uc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c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zeichnet werden obgleich die Polygone der anderen Zonen sich im Frustum be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eite15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114720" cy="346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" y="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r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72720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mer wenn die Kamera durch ein Portal blickt, ist der sichtb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eich in diese andere Zone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klein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ls das ganze View Frus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760" y="1717560"/>
            <a:ext cx="739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mach es Sinn mit einem verkleinerten Frustum d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Portal zu blic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seite10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3114720" cy="3467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4360" y="5905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legante Implementierung durch Rekursion (Zone B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one C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one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80" y="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lygonsort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zt haben wir eine Liste mit Polygonen, die im Frustum sichtbar sind und gezeichnet werden mü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4320" y="22096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e: In welcher Reihenfol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3240" y="274320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wort: Es gibt verschiedene Ansätze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3240" y="37339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: Verwendung des „Painter’s Algorithm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6483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Sichtbarkeits-Reihenfolge (Z-Distanz) wird besti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Polygone werden nach ihrer größten (am weitesten entfernten) Z-Koordinate sortiert und in dieser Reihenfolge gerend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1440" y="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fb989"/>
                </a:solidFill>
                <a:latin typeface="Times New Roman"/>
              </a:rPr>
              <a:t>Polygoncl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eite11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5430960" cy="3954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3280" y="762120"/>
            <a:ext cx="85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sichtbaren Polygone sind nun gefunden und ordentlich sorti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 müssen also nur noch gezeichn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5080" y="2133720"/>
            <a:ext cx="34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gone, deren Punkte alle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ustum liegen, können einf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zeichne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1040" y="3962520"/>
            <a:ext cx="334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lygone, die teilweise i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ustum liegen, müssen ge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Frustum ab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geclipped)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rojek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8480" y="990720"/>
            <a:ext cx="77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ildung von 3D-Polygone auf eine 2D-Fläche (Bildschi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eite13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21240" cy="380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rojek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eite14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1924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2200" y="838080"/>
            <a:ext cx="89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Projektion der Polygone erfolgt durch Umrechnung der Eckpun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680" y="1447920"/>
            <a:ext cx="76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Rendern erfolgt mit einer einfachen DrawLine-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eframe-Darstel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7480" y="525780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Rendern der Texturen erfolgt mit einem perspektiv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xture-Mapp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20" y="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800" y="99072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ie Darstellung von 3D-Objekten auf eine 2D-Fläche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gende Schritte nö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9080" y="2362320"/>
            <a:ext cx="74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ormation der 3D-Objekte relativ zum Betrach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fernen von nicht sichtbaren Objekten (Culling, Port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sible Surface Determination (z.B. Polygonsort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jektion der 3D-Objekte auf eine 2D-Fl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ndern der Tex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Wie alles beg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0400" y="4876920"/>
            <a:ext cx="877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Engine wurde von Ken Silverman entwickelt. Leveldesigner war Richard 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genannte Portal-Eng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stmalig schräge Flächen und Spiegel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uke1024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50" name="duke0000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429000" cy="256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3640" y="814320"/>
            <a:ext cx="69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 1996 folgte “Duke Nukem 3D” von der Company “3D Realm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09000" y="281952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bfb989"/>
                </a:solidFill>
                <a:latin typeface="Copperplate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80" y="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Der Auft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6280" y="106668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ust-for-fun Entwicklung einer eigenen 3D-Engine, die mindest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gende Eigenschaften 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4680" y="2286000"/>
            <a:ext cx="750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rgleichbar mit der DOOM 1 Eng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ände und Böden/Decken, die aus rechteckigen Polygonen besteh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in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Verwendung von Third-Party 3D-APIs (z.B. DirectX, OpenG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2520" y="472428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oing the hard way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" y="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Das Koordinaten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90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wird ein kartesisches Koordinatensystem 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zipiell wird zwischen zwei Varianten unterschi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eite1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3840120" cy="192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3640" y="518148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er wird das linkshändige Koordinatensystem verwen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" y="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Vekt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6640" y="83808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ktoren sind die wichtigsten Elemente einer 3D-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14479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schaf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39400" y="2057400"/>
            <a:ext cx="569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 Vektor repräsentiert einen Punkt im 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 Vektor repräsentiert eine Richtung im 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6920" y="2971800"/>
            <a:ext cx="35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chtige Operationen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040" y="3557520"/>
            <a:ext cx="7154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ddition und Subtra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ltiplikation und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kalar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kalarprodukt (auch Punktprodukt genannt, engl. Dotprodu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reuz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400" y="57913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ails siehe Bartsch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" y="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ly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9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kte haben eine bestimmte Position im 3D 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kte werden durch ihre Oberflächen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Oberfläche eines Objekts wird durch n Polygone beschri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Polygone sind immer konvex und ihre Punkte liegen immer auf einer Eb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3733920"/>
            <a:ext cx="69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 die Sache noch mehr zu vereinfachen gelten folgende Regel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9840" y="4572000"/>
            <a:ext cx="62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 Polygon ist immer rechteckig (vier Eckpun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u einem Polygon gehört genau eine Textur (Bitma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0" y="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Poly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1920" y="838080"/>
            <a:ext cx="35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ei Arten von Polyg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7440" y="1447920"/>
            <a:ext cx="78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L:   Eine Wand muß senkrecht angeordnet sein. Die Orientierung ist belieb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OR: Boden (oder Decke) muß horizontal ausgerichtet s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eite2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049720" cy="2733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6960" y="5410080"/>
            <a:ext cx="79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maximale Größe eines Polygons wird durch die zugehörige Textur vorgegeb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e Polygone werd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sortie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einer einfachen Liste abgele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" y="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989"/>
                </a:solidFill>
                <a:latin typeface="Times New Roman"/>
              </a:rPr>
              <a:t>Was jetz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3040" y="228600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, wir haben jetzt ein Koordinatensystem und Polyg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1640" y="3352680"/>
            <a:ext cx="66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 wie kommt das Ganze nun auf den Bildschir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0:22:12Z</dcterms:created>
  <dc:creator>Bernhard Schulz</dc:creator>
  <dc:description/>
  <dc:language>en-US</dc:language>
  <cp:lastModifiedBy>OLG</cp:lastModifiedBy>
  <dcterms:modified xsi:type="dcterms:W3CDTF">2007-02-03T11:31:37Z</dcterms:modified>
  <cp:revision>26</cp:revision>
  <dc:subject>Präsentation Februar 2007</dc:subject>
  <dc:title>3D Game Programming</dc:title>
</cp:coreProperties>
</file>